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23.jpeg" ContentType="image/jpeg"/>
  <Override PartName="/ppt/media/image18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1B6-57A4-4314-B9A5-34B2B4B6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283-470B-42A3-862B-F532F49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DF9-AFC6-418F-A6A9-D028C537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395-D5EB-4F11-80B8-040A17A2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EB9-78E0-4213-981A-79AE5BC8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C02-6C85-4C10-9914-A79A0026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5732-8214-460B-8529-910525BF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238-58F3-487C-AFC6-0519A3B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F9F7-2401-4196-B78A-925AB31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EC7D-3379-41F6-99B6-0212BDD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79CA-1F32-403D-8A19-A5EC105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020-34DD-40E8-A9DC-F279236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6058-ECD3-4EEF-ABA0-5EEA1A2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7D0A-3BEE-490A-A92A-5858382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E455-45F4-42A4-A7A4-437063B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EE80-BBEA-481D-AF28-C9E8A3B9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5872-2799-497D-AFCB-9851D442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D4EF-0CCD-452F-B240-CBC18F3C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6DE7-1AD0-4216-AF03-B394FAE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E22E-FE9E-4DCF-9B07-68F3057A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DE88-6611-46CB-8B76-3D0C4A05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927C-9777-4CFE-A180-5ACACBC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B43-A1F3-484D-9388-5520084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D4D5-480D-43D7-B02B-BA64D098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FCAE-9B53-4117-A11D-C949D42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39A1-4A85-42FC-B54D-857C69F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E2ED-2B38-42E8-A10A-1636AB1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45CC-758A-49B8-9449-117579C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097A-4756-482B-9D09-320A0E00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77A9-5122-4FBF-80E7-F8B10A9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A8F09-3267-45B8-8589-C5C145E0ED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1FEDF-EE37-425D-A672-6B79F13FF7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731F0-417D-4578-80E8-1FFD62A35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361-A5F0-4F95-AAB4-4D0889F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8EC59-89B1-4F43-B3F6-830AAFB616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A2743-6C47-4360-BF1E-13AD934CA1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C11F4-7124-4A0B-8DBB-E3E6432522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5444C-BA80-493F-BC7B-4855EA42D4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767C1-919D-454A-ACE4-5DAEE17EF6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0A7A5-6DCC-4BFA-806F-072AB7618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2576E-BB74-478F-9D90-BF377E856B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96976-DFF5-4E58-9607-B5CC0BE00D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3343F-7DF8-4E7F-8A2B-FEE5A44E44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CB55-79A2-4242-9BC5-CBB8C3F27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CCF-F273-4894-8372-C145F8C3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DFAC-C65E-4428-8C6A-176CFC6847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65AC-F885-4558-BFC2-5CD2B75CAE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17C2-C26E-4B42-9AE6-CA734340E0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A1B9-254F-4CBF-8A19-D59A53E96E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991C-356D-454A-AE4F-DC275015E3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AA22-461F-45A7-99E1-0F750A956A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9404-E912-433A-8EE9-779FA6F454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F449-6DB2-44F1-9188-2D6D003799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3037-EB88-437B-9D3E-103C92CC18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8B87-0BA5-4E9A-81FD-AD838F46A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D30-AD87-460A-AA36-1995EBC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7365-809D-479F-8600-D7C41E6560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13C2-3D6F-44F3-9934-DC1AF8116D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7522-743B-4CDA-A460-603C48F60B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DE28D-495B-497E-865F-CDEF822263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7FCB-33C8-49B8-A62C-299C3F5550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AEEC-BC9F-45A4-9BEE-5CCD4AE1C5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B185-6EEF-491D-B130-4CAF9D3E4B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3621-0E25-4B57-B653-D96B5BC256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3E5E-26F5-45C3-BC2C-D3BFCFCC76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692E-DB14-4642-A1D2-CBB367993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A79-5596-4C69-8BB9-21487D4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72FD-5C0E-4366-A88B-4F9CB63FA1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E11D-2983-4789-8583-53B5404661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131E-4703-43AA-ACD4-8636E60850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275B3-74CA-4019-8962-D659F82A61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DCB13-2068-46B6-A56C-456FD0EB4C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9AEA9-8EEF-4B4C-AC40-175ADDB44A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0C523-DBEA-4F65-9BB8-6B1A0578A5D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5234E-BB96-4AAA-BDF2-50F86EF18A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AB007-0D9F-4853-9D85-E3B39946A4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64F5E-74C6-4800-84E8-2ADA342BD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76B-578E-4685-B1A5-4EBA336F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6CD58-7E9D-4EBC-A4E9-A528E8E414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56670-3F49-4C73-B0F7-C42E719140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72E6B-E330-408B-AFD4-7FC214980A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7CEDF-72D7-4B5E-8FF7-0483A22060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F9A06-DAB9-4994-94E5-03E7138FE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44D-A75F-4B2A-A096-9F587AF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D14-B8C7-49DE-865D-23F75E781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88A-8AE7-4F2E-B098-33890E90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5B70-7BEA-4D5F-84D6-D8A8111DB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A77B48-FE7A-462B-A31D-A447837F4AA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1CB187-290F-44B9-8777-62B5CE17A6F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ftr" idx="14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0457A9-50AB-4390-84E3-C65830C757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FE28BB7-E384-46E4-9F57-C84173907D2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B2247F-9EA6-4536-A455-6266EAE302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repreneurship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, Promotion, and S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325-895D-443F-A488-6932CDACE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ufacturing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usually sell directly to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products &amp; sell to othe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ll distribute their products very broadly and use many chann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ll distribute thr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utlets on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En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lusive Department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ensiv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count Stores &amp; Drug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Manufacturing / Production / Operations Jobs"/>
          <p:cNvPicPr/>
          <p:nvPr/>
        </p:nvPicPr>
        <p:blipFill>
          <a:blip r:embed="rId1"/>
          <a:stretch/>
        </p:blipFill>
        <p:spPr>
          <a:xfrm>
            <a:off x="5867280" y="3886200"/>
            <a:ext cx="30006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51A-E0B1-4988-9582-21BBCFCF6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istribution includ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torage and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roducts within a channel of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xt 3 slid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9743-8128-437E-A4B2-9C5575ED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what and where you are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hables need refrigeration &amp;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, Railroad, Ship, Truck, Comb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C:\Users\jsundlin\AppData\Local\Microsoft\Windows\Temporary Internet Files\Content.IE5\JUFR2GF8\MC900389882[1].wmf"/>
          <p:cNvPicPr/>
          <p:nvPr/>
        </p:nvPicPr>
        <p:blipFill>
          <a:blip r:embed="rId1"/>
          <a:stretch/>
        </p:blipFill>
        <p:spPr>
          <a:xfrm>
            <a:off x="0" y="3429000"/>
            <a:ext cx="2514600" cy="1758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C:\Users\jsundlin\AppData\Local\Microsoft\Windows\Temporary Internet Files\Content.IE5\LKQBTLF8\MC900320954[1].wmf"/>
          <p:cNvPicPr/>
          <p:nvPr/>
        </p:nvPicPr>
        <p:blipFill>
          <a:blip r:embed="rId2"/>
          <a:stretch/>
        </p:blipFill>
        <p:spPr>
          <a:xfrm>
            <a:off x="1752480" y="4584600"/>
            <a:ext cx="2514600" cy="227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C:\Users\jsundlin\AppData\Local\Microsoft\Windows\Temporary Internet Files\Content.IE5\JUFR2GF8\MC900331995[1].wmf"/>
          <p:cNvPicPr/>
          <p:nvPr/>
        </p:nvPicPr>
        <p:blipFill>
          <a:blip r:embed="rId3"/>
          <a:stretch/>
        </p:blipFill>
        <p:spPr>
          <a:xfrm>
            <a:off x="4419720" y="3581280"/>
            <a:ext cx="2286000" cy="2297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:\Users\jsundlin\AppData\Local\Microsoft\Windows\Temporary Internet Files\Content.IE5\EF1AETK0\MC900434835[1].png"/>
          <p:cNvPicPr/>
          <p:nvPr/>
        </p:nvPicPr>
        <p:blipFill>
          <a:blip r:embed="rId4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37D7-CA87-48BF-A62F-ED631082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Storage and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storage allow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nels to bala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and dema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to cost of produc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damage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warehou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arious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C:\Users\jsundlin\AppData\Local\Microsoft\Windows\Temporary Internet Files\Content.IE5\JUFR2GF8\MC900230701[1].wmf"/>
          <p:cNvPicPr/>
          <p:nvPr/>
        </p:nvPicPr>
        <p:blipFill>
          <a:blip r:embed="rId1"/>
          <a:stretch/>
        </p:blipFill>
        <p:spPr>
          <a:xfrm>
            <a:off x="4822920" y="2209680"/>
            <a:ext cx="4321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66D-80E7-4D43-902A-1D21584D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protect the product from the time it is produced until it is consu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from being damaged/destroyed which would result in loss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product, shipping &amp; destina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iving Goods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ypes of businesses must receive goods from suppliers even if they don’t sell them to consumers (office supplies, raw materi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D5D-7CE7-4FAB-8EB3-20DEFC89F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are the 4 basic options of channels of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            #3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      #4 M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are channels of distribution different for different types of busi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 needs are based on size of market, type of product/service, and customer needs &amp; wa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factors are important to consider in the physical distribution of produ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 Transportation           #2 Product Storage Handling #3 Packaging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9FEA-A890-4354-AB7A-95E2EACD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e Marketing Mix - Promo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many forms of advertising and discuss the advantages and disadvantages of each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ublicity and describe ways to use publicity as a promotional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8CF-76CB-4CCF-9DD5-FB412EAD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think Chachi’s idea for an opening day promotion ids a good one? Why or Why No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uggest some alternative promotions that Chachi might 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FBE-B6DE-4899-8DBD-0A2F8F78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to promote your business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customers aw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benefits of buying from you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 can take many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, Publicity, Personal Selling, Sales Promo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al Mix – strategy created by adopting a blend of some, if not all th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0E53-8781-486B-B97B-F97168E5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id form of communication sent out by a business about a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your product in the public’s eye by creating a sense of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are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http://business.phillipmartin.info/la_advertising.gif"/>
          <p:cNvPicPr/>
          <p:nvPr/>
        </p:nvPicPr>
        <p:blipFill>
          <a:blip r:embed="rId1"/>
          <a:stretch/>
        </p:blipFill>
        <p:spPr>
          <a:xfrm>
            <a:off x="4316400" y="4191120"/>
            <a:ext cx="482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7420-9EA6-4F55-BD11-45BEB982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eet customer needs and enables the business to earn a prof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ing target market through a blend 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A97-B4A8-4C0E-9BF5-BC6FC1E4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nline Advertis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nner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graphic image or animation displayed within a rectangular box across top or down the side of a web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oating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 ad which moves across the screen or floats above the page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allpaper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 ad which changes the background of the page being vie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ick Bann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 banner ad that looks like a dialog box with buttons, often appearing like an error message or al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p-Up 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 new window that opens in front of the current one, displaying an advertis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4D01-3EFA-4C1F-8573-86B84394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for Online Advertis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Mil (CP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xposure of the mess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Click (CP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number of user clicks on 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st per Action (CP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ser completing form, registering for newsletter or some other acti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use – spamming: sending mass bulk em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ssive use of pop-ups, flashy banners and spam has cause internet users to block these advertis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BAC-CD0D-4CA5-BD8D-B03D64D6B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vision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Promotions reach millions every da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ay to reach large numbers quickl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s and Paid Ads (Infomercial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too broad of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C:\Users\jsundlin\AppData\Local\Microsoft\Windows\Temporary Internet Files\Content.IE5\EF1AETK0\MC900186162[1].wmf"/>
          <p:cNvPicPr/>
          <p:nvPr/>
        </p:nvPicPr>
        <p:blipFill>
          <a:blip r:embed="rId1"/>
          <a:stretch/>
        </p:blipFill>
        <p:spPr>
          <a:xfrm>
            <a:off x="6248520" y="4019400"/>
            <a:ext cx="28954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16D-2AA7-4AD3-9D95-98BD5E867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77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expensive that television promo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ertain you are reaching target mar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Stations tend to narrow down the target market for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audio, no visuals of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may not remember what they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may change station at commerc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C:\Users\jsundlin\AppData\Local\Microsoft\Windows\Temporary Internet Files\Content.IE5\JUFR2GF8\MC900441794[1].png"/>
          <p:cNvPicPr/>
          <p:nvPr/>
        </p:nvPicPr>
        <p:blipFill>
          <a:blip r:embed="rId1"/>
          <a:stretch/>
        </p:blipFill>
        <p:spPr>
          <a:xfrm>
            <a:off x="6781680" y="-30492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711A-F8B1-4745-921D-DF49481A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argest form of advertising in U.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inexpens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a limited geographic ar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es large number of peo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ople looking to Internet, less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aying to reach thousands outside of you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competition advertised right nex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2C4-5511-4606-8584-F82F1060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hone Directory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phone numbers of people &amp;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ads will appear on a p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the listing and phon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Newspaper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peated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ersuasion in a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next to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ready know what business they we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C:\Users\jsundlin\AppData\Local\Microsoft\Windows\Temporary Internet Files\Content.IE5\JUFR2GF8\MC900433861[1].png"/>
          <p:cNvPicPr/>
          <p:nvPr/>
        </p:nvPicPr>
        <p:blipFill>
          <a:blip r:embed="rId1"/>
          <a:stretch/>
        </p:blipFill>
        <p:spPr>
          <a:xfrm>
            <a:off x="6324480" y="2209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445-29EA-4FC6-895B-F67B8B4CA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4100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-M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Mail advertising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ers, catalogs, letters &amp; other correspondence sent to target customers through mai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mailing list which fit your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specialize in maintaining targeted mailing lists and sell them to busin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 considered – “Junk M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://www.clker.com/cliparts/4/2/1/c/1194985875176225709870a012.svg.med.png"/>
          <p:cNvPicPr/>
          <p:nvPr/>
        </p:nvPicPr>
        <p:blipFill>
          <a:blip r:embed="rId1"/>
          <a:stretch/>
        </p:blipFill>
        <p:spPr>
          <a:xfrm>
            <a:off x="6286680" y="152280"/>
            <a:ext cx="2857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CDE9-F2ED-4913-95FE-33272C68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azines are an excellent way to aim products at specific mark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magazine – equipment &amp; appar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 magazine – cosmetics, clothing, sho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gazine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good for limi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s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http://a3.espncdn.com/i/insider/insidermagindex/mag_04162012_289x350.jpg"/>
          <p:cNvPicPr/>
          <p:nvPr/>
        </p:nvPicPr>
        <p:blipFill>
          <a:blip r:embed="rId1"/>
          <a:stretch/>
        </p:blipFill>
        <p:spPr>
          <a:xfrm rot="20892600">
            <a:off x="5049360" y="4040280"/>
            <a:ext cx="1963800" cy="2644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http://img2.timeinc.net/people/i/2011/news/110425/jennifer-lopez-300.jpg"/>
          <p:cNvPicPr/>
          <p:nvPr/>
        </p:nvPicPr>
        <p:blipFill>
          <a:blip r:embed="rId2"/>
          <a:stretch/>
        </p:blipFill>
        <p:spPr>
          <a:xfrm rot="591600">
            <a:off x="6908760" y="401328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4419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do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 Advertising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board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in keep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there where many people can se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offer very much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-by readings must be - short and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367240" y="0"/>
            <a:ext cx="3776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42670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signs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uch mo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than Outdoor 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and outside of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ransit Ads offers the riders something to read for the duration of the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http://www.toponlinecolleges.com/wp-content/uploads/2011/08/bus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63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666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00B-8ED5-4CE9-AFCB-8B70F1E5F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keting Mix – Distribu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our basic options of channels of distrib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hannels of distribution to the specific needs of various types of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actors to consider in the physical distribution of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0B6-87ED-4288-A0E3-127F91EB6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l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-paid form of communication that calls attention to your business through media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ublicity can b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ity is free &amp; large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your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negative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is unfavo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http://www.cloudvirtualoffice.com/sites/default/files/images/blog-images-2012/FreePublicity.jpg"/>
          <p:cNvPicPr/>
          <p:nvPr/>
        </p:nvPicPr>
        <p:blipFill>
          <a:blip r:embed="rId1"/>
          <a:stretch/>
        </p:blipFill>
        <p:spPr>
          <a:xfrm>
            <a:off x="5334120" y="399096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670-5749-4ABB-86F5-D16E411A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s 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ritten statement meant to inform the media of an event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Page 16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 of a Press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nd Beverage Provi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ity Entertai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BDD-B122-4D27-8129-0061DF5B1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blic Re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stablishing a favorable relationship with customers &amp; general public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wareness and positive public relations can generate business when you show community involvement and commitm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 a community sport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onations to local charity/relief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-based programs through local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members of local Big Brother/Sis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community program - clean up p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AE2-4102-4411-BE73-93C61F23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f-Pro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s keep the company name visible and in the forefront of the people’s mi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way t-shirts and hats displaying your company name and log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ng pens, notepads, coffee mugs, and other useful items printed with company in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FE7-AD98-4D41-9797-DF621DB15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y is promotion important to a bus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siness will not succeed if target customers are not aware of it and what it has to off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are advantages/disadvantages of publi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publicity can be helpful as no-cost (free) advertising. But largely out of the business’s control and if it is negative, it could turn customers aw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CD10-8850-4E7A-AC95-D6FA903D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lling and Promo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6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role of selling in a busi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to meet customer needs &amp; wa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ther types of promo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91D-FEE6-4340-A661-030DD7B05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think that JoJo is making a good decision in adding a retail clothing line to her dance studio? Why or Why Not?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kinds of promotions do you think JoJo should use to try and attract new custom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8027-1E80-48A3-809B-FDBF39135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sonal S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rect communication between a prospective buyer &amp; a sales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representative attempts to influence the prospective buyer in a purchase situ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ough Product Knowledge - Sales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physical characteristics/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: advantages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7238880" y="5348160"/>
            <a:ext cx="19051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FD6-F6EF-4E37-9AA4-29DA8739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person finds out as much info about customers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range of options for the custo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Satisf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ulfill consumer ne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em Re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ssess problem, gather info, act as consultant to assis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E95-5DAE-4518-A133-D3FC4966A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ying Decisions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ional B.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logical reasoning of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, simplicity, quality, reliability, economy, convenience, service, durability, knowledge, $ gain, eas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otional B.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desire to have specific product</a:t>
            </a:r>
            <a:br>
              <a:rPr sz="24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ings, beliefs and attitude: fear, protection, appearance, recreation, improved health, comfort, recognition, pride, prestige and pop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2DE-2D61-4D16-B4B8-AAB9FD2CC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Smal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happen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in’s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Dustin should handle this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758D-5BDA-4D55-A22E-FA17A47C8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ling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ustomer Needs &amp; 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stomer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person can help in this deci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4E7C-4787-43BF-852C-1E39B215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al Strate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es Pro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incentive offered to customers in order to increase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sts, Free Samples, Rebates, Coupons, Special Events, Gift Certificates, Frequent Buyer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refund offered to people who purchase a pro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ing the phone to market your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613-1E52-4096-A694-0BC8C3E1A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selling important to a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money for the busi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meet customer needs and wants in the sell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s purchase goods and services in order to satisfy needs and wants.  If these cannot be met by the business, no sales will be m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50E-919D-4C3A-809E-90E0729D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ribu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component of the marketing mix that involves the locations and methods used to make products available to custo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annels of Distribu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s that products and services take from the time they are produced to the time they are consu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C35F-965B-4E55-AD81-0F899F02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 Channel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product directly from the manufacturer to consum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direct Channel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channel that uses intermediaries to move products between the manufacturer and the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ries: agents and wholesal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EAB-DE9F-41E1-B9E5-02E84CACA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r to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sa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l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49  - Channels of Distribution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B5B-9956-4264-A793-F05AA9551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your product or service to consumers in a convenient location during convenient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talogs, fliers, and other advertisements to reach customers who live outside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phone/fax orders and sh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 directly to the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bsite.  Customers c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bout your product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urchases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http://www.presentermedia.com/files/clipart/00005000/5561/retail_check_out_counter_image_500_clr.png?animid=5561?ismember=?primaryhue=360?reflect=http://www.presentermedia.com/files/clipart/00005000/5561/retail_check_out_counter_reflect_500_clr.png?shad=http://www.presentermedia.com/files/clipart/00005000/5561/retail_check_out_counter_shadow_500_clr.png?userid="/>
          <p:cNvPicPr/>
          <p:nvPr/>
        </p:nvPicPr>
        <p:blipFill>
          <a:blip r:embed="rId1"/>
          <a:stretch/>
        </p:blipFill>
        <p:spPr>
          <a:xfrm>
            <a:off x="6243480" y="4495680"/>
            <a:ext cx="26607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1F44-59C8-4515-9382-07C8528A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 Goods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rvic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ll their services directly to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irect Channel of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and consumption of a service happens all a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occur 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umer wants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ans, Restaurant Owners, Law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 directly with consumer wanting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http://3.bp.blogspot.com/_YMjLaqQbqxE/THsd5LSJMEI/AAAAAAAABcw/oSl2t0eio_I/s1600/Hair_salon.jpg"/>
          <p:cNvPicPr/>
          <p:nvPr/>
        </p:nvPicPr>
        <p:blipFill>
          <a:blip r:embed="rId1"/>
          <a:stretch/>
        </p:blipFill>
        <p:spPr>
          <a:xfrm>
            <a:off x="5943600" y="3733920"/>
            <a:ext cx="23623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2-04-30T12:19:58Z</dcterms:modified>
  <cp:revision>914</cp:revision>
  <dc:subject/>
  <dc:title>Chapter 4</dc:title>
</cp:coreProperties>
</file>